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10.pct" ContentType="image/x-pict"/>
  <Override PartName="/ppt/media/image21.jpeg" ContentType="image/jpeg"/>
  <Override PartName="/ppt/media/image7.pct" ContentType="image/x-pict"/>
  <Override PartName="/ppt/media/image27.jpeg" ContentType="image/jpeg"/>
  <Override PartName="/ppt/media/image8.pct" ContentType="image/x-pict"/>
  <Override PartName="/ppt/media/image33.jpeg" ContentType="image/jpeg"/>
  <Override PartName="/ppt/media/image19.jpeg" ContentType="image/jpeg"/>
  <Override PartName="/ppt/media/image3.pct" ContentType="image/x-pict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pct" ContentType="image/x-pict"/>
  <Override PartName="/ppt/media/image2.jpeg" ContentType="image/jpeg"/>
  <Override PartName="/ppt/media/image34.pct" ContentType="image/x-pict"/>
  <Override PartName="/ppt/media/image4.pct" ContentType="image/x-pict"/>
  <Override PartName="/ppt/media/image12.jpeg" ContentType="image/jpeg"/>
  <Override PartName="/ppt/media/image1.jpeg" ContentType="image/jpeg"/>
  <Override PartName="/ppt/media/image22.jpeg" ContentType="image/jpeg"/>
  <Override PartName="/ppt/media/image6.pct" ContentType="image/x-pict"/>
  <Override PartName="/ppt/media/image14.jpeg" ContentType="image/jpeg"/>
  <Override PartName="/ppt/media/image15.gif" ContentType="image/gif"/>
  <Override PartName="/ppt/media/image28.jpeg" ContentType="image/jpeg"/>
  <Override PartName="/ppt/media/image16.jpeg" ContentType="image/jpeg"/>
  <Override PartName="/ppt/media/image9.pct" ContentType="image/x-pict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6E0F-0EED-4AE7-9FD0-F68993D32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Listen to a three minute selection of Beethoven’s Fifth Symph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C10-2F2A-4AF4-B1EC-3CAEC06B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25A-29A2-423B-8A9D-BE816A6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0DE-DC7A-463D-B4AE-07EF0CA7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5FC-42E8-41A5-9F07-3D6A685D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646E-7EDD-422A-BDD3-B61AA08C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BF96-5DEF-4B44-9B97-B1D525A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4079-5728-418E-BFC8-F1FCA0F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1A6C-396E-4B1B-9DCE-7CD2B4E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6EA5-DD34-4368-8D98-362524E0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EE40-24B1-4320-9333-722630B8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16D4-1EAD-408F-A65B-C7D80CB8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5FE-5D41-4E05-B4AC-48C6D8AD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8116-3BA8-44F9-A806-A6CEF21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CFE-1E12-465F-A7F4-01C62A8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2DF-8BD2-49AB-A1BE-C190B58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4AAE-1574-4A59-9A5E-71B3471C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145A-AB12-4209-A441-3BCB5C98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6A2F-8833-4E60-ADA4-34502A9C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C86D-EF52-4921-9C4A-FC6E69B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1264-1CD7-40C8-98C5-FD6F2B3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BA89-1661-4707-9EBB-5ED419E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969F-6CA0-40DD-A5FE-2DD99C2C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9DA-7F38-4D9A-A1FB-1096CB9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D284-EB59-49D0-8DF2-AB0283C8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06BC-42B8-45EC-BB43-3885DA6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554C-091F-4C5B-A39F-1429316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303D-E2AD-4267-B924-2C1EE09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7823-FE76-445C-BD39-0DE35A8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2331-A606-4DC6-BC53-78C4A4CB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F27E-B983-4513-B818-335B0C51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5132-E045-430C-ACF9-AAF86E99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279A-8632-4C4E-9871-4AA5D20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705C-3E98-4038-91F3-667EBDCE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380-3CA8-4934-A27C-A9D6A9A3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76DE-B618-4385-9C96-D49F61DF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C46A-A08A-4C7D-BA9A-CA4DF99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E849-28C3-4AFC-B16B-654D0F4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97DC-9942-4747-9C60-33565D0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9031-B621-481D-B0B8-DC97FDD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3C64-BADF-4A59-9827-4362FD1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24FF-BCC0-4184-B4DB-B82C4573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DA27-4260-4934-875C-CEC1D1A0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1A980-7B6D-46BF-ADC1-3CACCA28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E7C-6A74-438F-B28E-A2BEC3AB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7D2-56B9-4B73-8E51-B996756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06A-5476-4A49-BE74-1A64145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22E-7C67-4449-B724-279FB06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661-CF82-45EF-BEB4-4184C95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3031-2CBD-49B0-A749-A1B89CA1A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76F6-9997-4644-AB36-1B313361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FB0E-1C2B-4406-9B44-A1416213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8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8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D16-CC91-4201-91A6-F5C490A64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edge-sample.wikispaces.com/Beethove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thoven Roc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31237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ical 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533412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3840" y="4495680"/>
            <a:ext cx="301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 L.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ity Of Phoenix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Computers in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P 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AVE AS “BEETHOVEN” IN YOUR GARAGEBAND FIL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775320" cy="257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“CREATE”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74800" y="2124000"/>
            <a:ext cx="3792600" cy="260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98400" y="958680"/>
            <a:ext cx="7747200" cy="494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4040" y="1173240"/>
            <a:ext cx="8034480" cy="45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03880" cy="2752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47360" y="428760"/>
            <a:ext cx="83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turns your computer keyboard into a musical keybo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46483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 IS THE NOTES FOR BEETHOVEN”S FI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562720"/>
            <a:ext cx="8076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GGE    FFF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946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9200" y="779400"/>
            <a:ext cx="8985600" cy="52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07880" y="685800"/>
            <a:ext cx="8431200" cy="501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686800" cy="544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47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467480" cy="634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1535040" cy="947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1270080" cy="1625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52480" y="2666880"/>
            <a:ext cx="1536840" cy="1625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172200" y="2590920"/>
            <a:ext cx="1308240" cy="1625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4876920" y="3809880"/>
            <a:ext cx="1625400" cy="1549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5105520" y="1371600"/>
            <a:ext cx="1231920" cy="1625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625400" cy="14475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62576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14400" y="9144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ic should strike fire from the heart of man, and bring tears from the eyes of woma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2133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SvtyTwo ITC TT-BookIta"/>
                <a:ea typeface="ＭＳ Ｐゴシック"/>
              </a:rPr>
              <a:t>Ludwig Van Beeth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6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OP BROWSE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09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565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90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575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33520" y="68580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add as many loops as you would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9810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X and have some fun creat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623960" y="3105000"/>
            <a:ext cx="589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Ludwig Van Beethove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638680" y="4343400"/>
            <a:ext cx="1625760" cy="203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fth of Beetho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111560"/>
            <a:ext cx="7772400" cy="1984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he above picture to watch a theatrical version of Beethoven’s Fifth Symph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49840" y="1981080"/>
            <a:ext cx="1444320" cy="19843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h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195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24382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How many notes are there in the beginning musical moti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3581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How many pitches are there in the beginning musical moti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an you use the keyboard to determine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tches h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6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6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6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 C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670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ate a video essay 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ethov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a midi instrument to record the four note motif that is used in Beethoven’s Fifth Symph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 a 16 measure accompaniment for the four note motif of Beethoven’s Fifth Symph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8000"/>
                            </p:stCondLst>
                            <p:childTnLst>
                              <p:par>
                                <p:cTn id="1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Let’s create a piece of music in honor of Mr.. Beetho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4029120" cy="382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ARAGE BA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238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ARAGE BA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467840" cy="830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29680" y="1855800"/>
            <a:ext cx="88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ON THE PICTURE OF THE GUITAR TO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RAGE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LECT “CREATE NEW MUSIC PROJECT.”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70480" cy="38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5:06:20Z</dcterms:created>
  <dc:creator>eclipse</dc:creator>
  <dc:description/>
  <dc:language>en-US</dc:language>
  <cp:lastModifiedBy>Robin Phares User</cp:lastModifiedBy>
  <dcterms:modified xsi:type="dcterms:W3CDTF">2008-05-29T21:01:41Z</dcterms:modified>
  <cp:revision>7</cp:revision>
  <dc:subject/>
  <dc:title>Big Beethoven</dc:title>
</cp:coreProperties>
</file>